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29609"/>
        <c:axId val="46086067"/>
      </c:barChart>
      <c:catAx>
        <c:axId val="97729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86067"/>
        <c:crosses val="autoZero"/>
        <c:auto val="1"/>
        <c:lblAlgn val="ctr"/>
        <c:lblOffset val="100"/>
        <c:noMultiLvlLbl val="0"/>
      </c:catAx>
      <c:valAx>
        <c:axId val="4608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9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18B-3907-4A84-8AF9-B43D421A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C75-3982-4894-B878-4C6FF1AA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DE7-5D88-4752-887A-1D60042B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EC3-2242-4F78-A128-2BA8744D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07A-7CED-47DC-8D83-40CB1AB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AA8-5236-4E4F-960F-40AF0C1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8FB-B280-40D5-B1DF-CD10FFA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1AD-6938-48E8-A11E-7DF0BDB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CFA-A850-407D-B8DF-411DE44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487-AA91-4DEC-972B-1E8760A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345-156A-4F56-8244-0A1CE42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877-BFA3-4D50-ABAE-CF60450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87F13-F324-4257-994E-4CD8E8309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