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25177"/>
        <c:axId val="58239882"/>
      </c:barChart>
      <c:catAx>
        <c:axId val="19825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39882"/>
        <c:crosses val="autoZero"/>
        <c:auto val="1"/>
        <c:lblAlgn val="ctr"/>
        <c:lblOffset val="100"/>
        <c:noMultiLvlLbl val="0"/>
      </c:catAx>
      <c:valAx>
        <c:axId val="58239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25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540-1BE3-4CE1-AF69-EB9BD435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212-42B3-4FE9-AB7B-25B80828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7A9-D257-4104-A61A-D3F81529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3C0-D862-4554-B0A8-27EDB2A1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C82-52D4-41E9-8C3B-10A11C76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D6E-ACB2-43ED-83A8-57A741F9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DE4-1ED9-41A5-8D13-4A5C031C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3F9-03DF-4246-9A22-27B90E2B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643-DE68-4F9B-A000-8E68FCF7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C72-8429-4CB8-A489-DA693D3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32B-8BD6-43D2-9B33-EF261F96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A78-BE82-42A7-AF43-A97842EA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7D4D4-5DBA-42FD-8CC1-806C5B938B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