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934998"/>
        <c:axId val="7393400"/>
      </c:barChart>
      <c:catAx>
        <c:axId val="229349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3400"/>
        <c:crosses val="autoZero"/>
        <c:auto val="1"/>
        <c:lblAlgn val="ctr"/>
        <c:lblOffset val="100"/>
        <c:noMultiLvlLbl val="0"/>
      </c:catAx>
      <c:valAx>
        <c:axId val="73934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9349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2048-9ADB-4277-A3AF-344AE2D05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50D0-268B-4652-BB29-877AD6D0E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8578-D08B-40E8-9492-ABF898B9D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D6A4-80E1-4F49-B251-8CCCA2E7E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C972-1DF2-4AA0-80A8-F909426D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05C8-6274-40AE-9383-6202DE28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E060-75E2-46E3-90DF-7F214C20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6440-00D4-4450-AC03-DF914296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B91B-6F0B-403C-BC55-E4E9FC77A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F092-373A-41F5-858F-52E12EC9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0102-995E-4FB1-9CD5-48F8AB02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F267-882E-4393-AE43-B9738431A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D92EE-4B30-47AC-B27D-7A8353B0A2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