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3CC5-1EE1-42B0-ABD5-FF2C18400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68A3-2D7C-406A-B296-65180FA0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ED9B-A2A7-4BA8-82DC-140E4DCED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3B81-2C8A-466A-8BDF-17EB71B4A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0CC8-3E1B-4EE0-AA4C-DAF31A88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E952-40F6-4655-A578-6C7DD1D9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8619-1DB0-414D-9AB8-5D5141B9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CCD7-7979-458E-81E2-A72D9D25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7A7D-20AF-4F01-A268-C128E39BE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3114-B258-400B-B9EC-6C3FD6D2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EF36-3441-4C1F-93F9-285FBF3B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EA5D-01C3-49B7-B79A-1A4B59C9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BCC2AC-4418-4F3D-B5C7-712F104C7778}" type="slidenum"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2920" cy="595080"/>
            <a:chOff x="2013120" y="1668600"/>
            <a:chExt cx="502920" cy="5950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412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3280" cy="595080"/>
            <a:chOff x="6046920" y="1668600"/>
            <a:chExt cx="503280" cy="5950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828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1st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2n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3r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701800" y="3933720"/>
            <a:ext cx="2313000" cy="1725840"/>
            <a:chOff x="2701800" y="3933720"/>
            <a:chExt cx="2313000" cy="1725840"/>
          </a:xfrm>
        </p:grpSpPr>
        <p:sp>
          <p:nvSpPr>
            <p:cNvPr id="84" name=""/>
            <p:cNvSpPr/>
            <p:nvPr/>
          </p:nvSpPr>
          <p:spPr>
            <a:xfrm flipV="1">
              <a:off x="352260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260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0180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282204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1960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99000" y="2276640"/>
            <a:ext cx="2016000" cy="1296720"/>
            <a:chOff x="4599000" y="2276640"/>
            <a:chExt cx="2016000" cy="1296720"/>
          </a:xfrm>
        </p:grpSpPr>
        <p:sp>
          <p:nvSpPr>
            <p:cNvPr id="98" name=""/>
            <p:cNvSpPr/>
            <p:nvPr/>
          </p:nvSpPr>
          <p:spPr>
            <a:xfrm>
              <a:off x="459900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9900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07000" y="2276640"/>
              <a:ext cx="180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70080" y="3933720"/>
            <a:ext cx="2313000" cy="1725840"/>
            <a:chOff x="1270080" y="3933720"/>
            <a:chExt cx="2313000" cy="1725840"/>
          </a:xfrm>
        </p:grpSpPr>
        <p:sp>
          <p:nvSpPr>
            <p:cNvPr id="109" name=""/>
            <p:cNvSpPr/>
            <p:nvPr/>
          </p:nvSpPr>
          <p:spPr>
            <a:xfrm flipV="1">
              <a:off x="208908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8908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7000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7008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39032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8788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166920" y="2276640"/>
            <a:ext cx="2016360" cy="1296720"/>
            <a:chOff x="3166920" y="2276640"/>
            <a:chExt cx="2016360" cy="1296720"/>
          </a:xfrm>
        </p:grpSpPr>
        <p:sp>
          <p:nvSpPr>
            <p:cNvPr id="123" name=""/>
            <p:cNvSpPr/>
            <p:nvPr/>
          </p:nvSpPr>
          <p:spPr>
            <a:xfrm>
              <a:off x="3166920" y="2276640"/>
              <a:ext cx="201636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66920" y="2924280"/>
              <a:ext cx="20163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7528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156360" y="2276640"/>
            <a:ext cx="2016000" cy="1296720"/>
            <a:chOff x="6156360" y="2276640"/>
            <a:chExt cx="2016000" cy="1296720"/>
          </a:xfrm>
        </p:grpSpPr>
        <p:sp>
          <p:nvSpPr>
            <p:cNvPr id="139" name=""/>
            <p:cNvSpPr/>
            <p:nvPr/>
          </p:nvSpPr>
          <p:spPr>
            <a:xfrm>
              <a:off x="615636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5636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6436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cp:revision>0</cp:revision>
  <dc:subject/>
  <dc:title>Diapositiva 1</dc:title>
</cp:coreProperties>
</file>