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E72-85D3-44B2-9CEF-47A30BC4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A987-3F87-4B9B-A452-7E5835DF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884C-FB51-411C-9F33-D3F59231F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AF9A-7A89-4A7B-8DFC-D27232F6F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6AFD-858D-407D-931C-AD348FB6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8102-C0A5-4FEF-9684-67932181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A617-C9D1-459D-9EAD-AA54BC54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90BC-DBD1-42DD-BE9E-83942878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B27F-067A-461D-B957-8BEA1371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96A3-19D1-4B35-B061-84FDB10F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859B-0D84-43C3-BF7F-2B6190CC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FE0A-D6FF-4BF2-A989-32A64E1A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DBDF-6AA3-42F6-B36B-637672F90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7280" y="1916280"/>
            <a:ext cx="1511280" cy="1008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ck trace needed 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>
            <a:stCxn id="43" idx="2"/>
            <a:endCxn id="44" idx="0"/>
          </p:cNvCxnSpPr>
          <p:nvPr/>
        </p:nvCxnSpPr>
        <p:spPr>
          <a:xfrm flipH="1" rot="16200000">
            <a:off x="3241080" y="909360"/>
            <a:ext cx="286200" cy="1080"/>
          </a:xfrm>
          <a:prstGeom prst="bentConnector3">
            <a:avLst>
              <a:gd name="adj1" fmla="val 492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3"/>
            <a:endCxn id="46" idx="0"/>
          </p:cNvCxnSpPr>
          <p:nvPr/>
        </p:nvCxnSpPr>
        <p:spPr>
          <a:xfrm>
            <a:off x="4138560" y="2420280"/>
            <a:ext cx="72108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4211640" y="2708280"/>
            <a:ext cx="12952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1" idx="1"/>
            <a:endCxn id="48" idx="0"/>
          </p:cNvCxnSpPr>
          <p:nvPr/>
        </p:nvCxnSpPr>
        <p:spPr>
          <a:xfrm flipV="1" rot="10800000">
            <a:off x="1978560" y="2420280"/>
            <a:ext cx="648720" cy="28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2268360" y="1052640"/>
            <a:ext cx="2232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alculate log targ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nd filters bas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on logger name and log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"/>
          <p:cNvCxnSpPr>
            <a:stCxn id="44" idx="2"/>
            <a:endCxn id="41" idx="0"/>
          </p:cNvCxnSpPr>
          <p:nvPr/>
        </p:nvCxnSpPr>
        <p:spPr>
          <a:xfrm rot="5400000">
            <a:off x="3239640" y="1771560"/>
            <a:ext cx="288000" cy="1800"/>
          </a:xfrm>
          <a:prstGeom prst="bentConnector3">
            <a:avLst>
              <a:gd name="adj1" fmla="val 49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4859280" y="1341360"/>
            <a:ext cx="230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Because of the special data structur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used, the amortized cost of this is zer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3"/>
            <a:endCxn id="50" idx="1"/>
          </p:cNvCxnSpPr>
          <p:nvPr/>
        </p:nvCxnSpPr>
        <p:spPr>
          <a:xfrm>
            <a:off x="4500720" y="1340640"/>
            <a:ext cx="358920" cy="360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48" name=""/>
          <p:cNvSpPr/>
          <p:nvPr/>
        </p:nvSpPr>
        <p:spPr>
          <a:xfrm>
            <a:off x="1258920" y="2708280"/>
            <a:ext cx="1440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Create log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without a stack tr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6000" y="2565360"/>
            <a:ext cx="201600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s rather lengthy ope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nd should be avoid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 prerformance reas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6" idx="3"/>
            <a:endCxn id="52" idx="1"/>
          </p:cNvCxnSpPr>
          <p:nvPr/>
        </p:nvCxnSpPr>
        <p:spPr>
          <a:xfrm flipV="1">
            <a:off x="5506920" y="2925000"/>
            <a:ext cx="289440" cy="352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54" name=""/>
          <p:cNvCxnSpPr>
            <a:stCxn id="48" idx="2"/>
            <a:endCxn id="55" idx="0"/>
          </p:cNvCxnSpPr>
          <p:nvPr/>
        </p:nvCxnSpPr>
        <p:spPr>
          <a:xfrm flipH="1" rot="16200000">
            <a:off x="2356200" y="2834280"/>
            <a:ext cx="649440" cy="14036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6" idx="2"/>
            <a:endCxn id="55" idx="0"/>
          </p:cNvCxnSpPr>
          <p:nvPr/>
        </p:nvCxnSpPr>
        <p:spPr>
          <a:xfrm rot="5400000">
            <a:off x="3795840" y="2797560"/>
            <a:ext cx="649440" cy="1477440"/>
          </a:xfrm>
          <a:prstGeom prst="bentConnector3">
            <a:avLst>
              <a:gd name="adj1" fmla="val 500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482920" y="3860640"/>
            <a:ext cx="17985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Proceed to the firs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2436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s ev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allowed by filte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3"/>
            <a:endCxn id="59" idx="1"/>
          </p:cNvCxnSpPr>
          <p:nvPr/>
        </p:nvCxnSpPr>
        <p:spPr>
          <a:xfrm>
            <a:off x="5435640" y="5085360"/>
            <a:ext cx="11527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9" idx="0"/>
            <a:endCxn id="61" idx="3"/>
          </p:cNvCxnSpPr>
          <p:nvPr/>
        </p:nvCxnSpPr>
        <p:spPr>
          <a:xfrm flipV="1" rot="16200000">
            <a:off x="6984360" y="4222080"/>
            <a:ext cx="396360" cy="322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61" idx="1"/>
            <a:endCxn id="57" idx="0"/>
          </p:cNvCxnSpPr>
          <p:nvPr/>
        </p:nvCxnSpPr>
        <p:spPr>
          <a:xfrm flipV="1" rot="10800000">
            <a:off x="4679640" y="4185360"/>
            <a:ext cx="468720" cy="396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5148360" y="3933720"/>
            <a:ext cx="187308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Advance to the next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55" idx="3"/>
            <a:endCxn id="57" idx="0"/>
          </p:cNvCxnSpPr>
          <p:nvPr/>
        </p:nvCxnSpPr>
        <p:spPr>
          <a:xfrm>
            <a:off x="4281480" y="4112280"/>
            <a:ext cx="398880" cy="469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4932360" y="5805360"/>
            <a:ext cx="208764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Arial"/>
              </a:rPr>
              <a:t>Send log event to the targ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57" idx="2"/>
            <a:endCxn id="64" idx="1"/>
          </p:cNvCxnSpPr>
          <p:nvPr/>
        </p:nvCxnSpPr>
        <p:spPr>
          <a:xfrm flipH="1" rot="16200000">
            <a:off x="4572360" y="5697000"/>
            <a:ext cx="467640" cy="252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64" idx="3"/>
            <a:endCxn id="59" idx="2"/>
          </p:cNvCxnSpPr>
          <p:nvPr/>
        </p:nvCxnSpPr>
        <p:spPr>
          <a:xfrm flipV="1">
            <a:off x="7020000" y="5589720"/>
            <a:ext cx="324000" cy="467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/>
          <p:nvPr/>
        </p:nvSpPr>
        <p:spPr>
          <a:xfrm>
            <a:off x="971640" y="4941720"/>
            <a:ext cx="2663640" cy="7192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is involves walk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he entire filter list and the c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depends on the filter complex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7" idx="3"/>
            <a:endCxn id="57" idx="1"/>
          </p:cNvCxnSpPr>
          <p:nvPr/>
        </p:nvCxnSpPr>
        <p:spPr>
          <a:xfrm flipV="1">
            <a:off x="3635280" y="5085360"/>
            <a:ext cx="289440" cy="21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69" name=""/>
          <p:cNvSpPr/>
          <p:nvPr/>
        </p:nvSpPr>
        <p:spPr>
          <a:xfrm>
            <a:off x="4139640" y="220500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44360" y="552924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8000" y="4581360"/>
            <a:ext cx="1511280" cy="100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ve more target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68720" y="4378320"/>
            <a:ext cx="37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58160" y="530064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59" idx="3"/>
            <a:endCxn id="74" idx="0"/>
          </p:cNvCxnSpPr>
          <p:nvPr/>
        </p:nvCxnSpPr>
        <p:spPr>
          <a:xfrm flipH="1">
            <a:off x="7885080" y="5085360"/>
            <a:ext cx="214560" cy="1080720"/>
          </a:xfrm>
          <a:prstGeom prst="bentConnector4">
            <a:avLst>
              <a:gd name="adj1" fmla="val -110084"/>
              <a:gd name="adj2" fmla="val 733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7524720" y="6165720"/>
            <a:ext cx="72072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7080" y="48816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217332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27280" y="52056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Logging metho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06:19:47Z</dcterms:created>
  <dc:creator>Jarosław Kowalski</dc:creator>
  <dc:description/>
  <dc:language>en-US</dc:language>
  <cp:lastModifiedBy>Jarosław Kowalski</cp:lastModifiedBy>
  <dcterms:modified xsi:type="dcterms:W3CDTF">2005-05-29T06:55:57Z</dcterms:modified>
  <cp:revision>66</cp:revision>
  <dc:subject/>
  <dc:title>Slajd 1</dc:title>
</cp:coreProperties>
</file>